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3FC0-7697-4D56-A5A0-3B3784A62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15F6-26C1-4AF3-A341-13D4B1458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261-34D6-4149-B8BD-8099FABC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EA9-4552-45F6-949A-CF8872EE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749-6A28-4B87-9B2C-85F0AE7B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52E-43AE-4CF0-8587-95D1BD10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0C6-5BDD-4C69-9089-B485A315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8E1-157A-4C0D-810A-4DA80A71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DF1-1533-473C-B793-8A0CF56B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FCD-393F-4DE8-BE35-26AC7E3C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802-0730-4C7D-9C00-3DCD754E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CAF-9FE7-43DA-9D34-995192F3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91B-1CA6-40DC-A03C-30DC9B36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471-0847-4EFB-99CB-95B65116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941C-A832-4430-8377-40C13ED26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03 ФАРМАКОЕКОНОМИЈА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ирање у фармакоекономији. Примена Марковљевог модела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ц др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арина Кост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При моделовању се мора прецизирати дужина временског интервала кроз који пролази третирани проблем, као и укупан број и дужина појединачног временског циклуса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За свако стање неопходно је проценити трошкове и исходе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57168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Сам концепт модела омогућава симулацију кохорте и Монте Карло симулациј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Симулација кохорте је вид детерминистичке анализе, вероватноће и трошкови свих стања су приказани сетом дефинитивних нумеричких вредности, а варијабилност ових података није узета у обз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У Монте Карло симулацији, модел пропушта по једног виртуелног пацијента кроз утврђена стања, а трошкови и исходи се процењују за сваког пацијента посеб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Модел насумице бира пацијенте и пропушта их кроз модел при чему сваки пацијент пролази кроз различите сценарије, а трошкови и исходи се рачунају за сваког пацијента посеб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Модел пружа опцију за рачунање и инкременталног односа трошкови/ефекат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00008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Резултате и закључке добијене симулацијом модела неопходно је проверити анализом сензитивности, односно осетљив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Ова анализа представља процес у коме модел мења задате вредности варијабли у унапред предвиђеном распон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Израда прецизног  и валидног модела је неопходна у савременом приступу фармакоекономских истарживањ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Предности моделирања су релативно ниски трошкови израде модела, али и могућности анализе великог броја параметара на крајњи исх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9968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Malgun Gothic"/>
              </a:rPr>
              <a:t>Значајност моделирања у процени како исплативости тако и ефикасности нових терапијских процедура у односу на стандардне  процедуре је круцијална а закључак добијен на основу моделирања може бити основа за увођење нових терапијских процедура у свакодневну пракс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Malgun Gothic"/>
              </a:rPr>
              <a:t>Из тих разлога неопходно је да сама израда модела буде прецизна и  базирана на добро процењеним вредностима, а да се по завршеном моделирању изврши независна процена валидности модела, његове структуре и поузданости свих параметара и варијабли које чине сам модел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9cdc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Фармакоекономске студије идентификују, мере и пореде трошкове лечења али и исходе, ризике и користи различитих терапијских опција, па као такве могу послужити при увођењу нових терапијских мер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Walley T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Gulim"/>
              </a:rPr>
              <a:t>et al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. 2004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Посебно место међу фармакоекономским анализама заузима израда Марковљевог моде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Израда модела је метод избора у фармакоекономској евалуацији посебно у ситуацијама када није могуће спровести клиничка ист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ulim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живања, било из логистичких или етичких разлога или уколико дизајн клиничких истраживања не подразумева могућност добијања сета економских података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9cdc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Израду модела подржава наменски софтвер Three Age, чија употреба захтева одобрење призвођача (Janković S, 2009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ree ag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софтвер је високо софистицирани компјутерски пакет који омогућава доношење одлука у сложеним и неизвесним ситу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9cdc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ћност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ree ag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софтвера подразумевају  примену систематске методологије у циљ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умевања третираног пробл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валуацији опција у контексту повезаних неизве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ијање стратегија које максимизирају бенефит терапијских опција а смањују ниво хазар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49cdc"/>
                </a:solidFill>
                <a:latin typeface="Calibri"/>
              </a:rPr>
              <a:t>Практична примена </a:t>
            </a:r>
            <a:r>
              <a:rPr b="0" lang="sr-Latn-CS" sz="3600" spc="-1" strike="noStrike">
                <a:solidFill>
                  <a:srgbClr val="749cdc"/>
                </a:solidFill>
                <a:latin typeface="Calibri"/>
              </a:rPr>
              <a:t>Tree age</a:t>
            </a:r>
            <a:r>
              <a:rPr b="0" lang="sr-CS" sz="3600" spc="-1" strike="noStrike">
                <a:solidFill>
                  <a:srgbClr val="749cdc"/>
                </a:solidFill>
                <a:latin typeface="Calibri"/>
              </a:rPr>
              <a:t> софтвера </a:t>
            </a:r>
            <a:r>
              <a:rPr b="0" lang="sr-Latn-CS" sz="3600" spc="-1" strike="noStrike">
                <a:solidFill>
                  <a:srgbClr val="749cdc"/>
                </a:solidFill>
                <a:latin typeface="Calibri"/>
              </a:rPr>
              <a:t>Pro </a:t>
            </a:r>
            <a:r>
              <a:rPr b="0" i="1" lang="sr-Latn-CS" sz="3600" spc="-1" strike="noStrike">
                <a:solidFill>
                  <a:srgbClr val="749cdc"/>
                </a:solidFill>
                <a:latin typeface="Calibri"/>
              </a:rPr>
              <a:t>healthca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ee ag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healthcare 2011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 компјутерски пакет дизајниран за потребе фармакоекономских истраживања а намењен здравственим професионалцима, студентима и истраживачима из области здрав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ај пакет обједињује класича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ee ag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офтвер, Марковљев процес, анализу компарације ефективности и анализу трошкова и ефек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749cdc"/>
                </a:solidFill>
                <a:latin typeface="Calibri"/>
              </a:rPr>
              <a:t>Марковљев мо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ност ове методе је у томе што је уз анализу одлуке придодата и опција времена, односно дати проблем се прати у време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уелна здравствена проблематика подразумева питања која се одликују изузетном динамиком, а чије промене у великој мери могу мењати значај проблема како у економском тако и логистичком смис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то је велика предност Марковљевог модела што може представити проблем, болест, питање 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"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унк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времена било да су у питању акутна краткотрајна ил хронична ст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9cdc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Моделовање започиње израдом "дрвета одлуке"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При изради Марковљевог модела, неопходно је дефинисати више различитих здравствених стања за дати клинички проблем, односно направити реалан приказ свих могућих сценарија које пацијент може искуси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Концепт модела омогућава да се пацијент током једног циклуса могу налазити само у једном стању, али и да могу прелазити из  једног у друго ст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Вероватноће које се односе на ове преласке се означавају као 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транзиционе вероватноћ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2:01:58Z</dcterms:created>
  <dc:creator>Bill Gates</dc:creator>
  <dc:description/>
  <dc:language>en-US</dc:language>
  <cp:lastModifiedBy>Bill Gates</cp:lastModifiedBy>
  <dcterms:modified xsi:type="dcterms:W3CDTF">2012-11-08T13:03:03Z</dcterms:modified>
  <cp:revision>17</cp:revision>
  <dc:subject/>
  <dc:title>Slide 1</dc:title>
</cp:coreProperties>
</file>